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jpeg" ContentType="image/jpeg"/>
  <Override PartName="/ppt/media/image11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4BD6D-0575-4CC8-BC8A-C75ACD9CCE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DC90B-688F-40AB-AB52-C2BF11677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FD89-C8A7-4F6B-BDEF-355D7E5C06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8406B-B697-40B6-85E8-03AA5A41F0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12D7F-3EB8-4B05-BFE5-39FC0641E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85364-C2F3-403E-AEC8-834B6E3331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09E22-9267-4500-898C-BC92C40FBE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426E6-E838-4DAE-8629-18BA7A1825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FF2A0-71B0-4030-96B3-A411CDB3A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C5366-FFE1-4F7B-B180-A20A03F8B3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26D-DA90-4F3F-B122-ADEC04497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70F7-5F8B-4DE6-AF83-27863A8DD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EE4D1-16B1-4EA0-9F02-986000DF21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D769-503F-4B7E-8019-221CE3FDA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CC430-D789-4256-9BC0-FF6BE2EF6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C46F-C19D-4A3F-A814-9DC7490A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C674-6B0E-4EFE-8D12-D94B42571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4D4D-A746-4F33-B27F-CB5EF8460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E5C0-D7BC-493E-8B89-9B25BE6EE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278C-576A-4565-92C5-1E16E366E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EC4E-DA80-49BA-B0E8-E7D32D6AB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B77A-D42D-48E0-AF6C-68F7F9BAC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ECEC6-32D7-4D39-92A8-901A689545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22160" y="266688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ZA" sz="4400" spc="-1" strike="noStrike">
                <a:solidFill>
                  <a:srgbClr val="000000"/>
                </a:solidFill>
                <a:latin typeface="Arial"/>
              </a:rPr>
              <a:t>Monitoring Equipment Used in the Microbiology Laborator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0B4CC-50E5-4657-A141-0C5DFA9E609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09EEE-9142-47F4-A1E0-84A7F73D8AB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quipment - Microbiolog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nitor temperatures of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ub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eezer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form function check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t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cla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 m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ights and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tain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6" descr="Incubator"/>
          <p:cNvPicPr/>
          <p:nvPr/>
        </p:nvPicPr>
        <p:blipFill>
          <a:blip r:embed="rId1"/>
          <a:stretch/>
        </p:blipFill>
        <p:spPr>
          <a:xfrm>
            <a:off x="6781680" y="1219320"/>
            <a:ext cx="2114640" cy="28191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Pipettes"/>
          <p:cNvPicPr/>
          <p:nvPr/>
        </p:nvPicPr>
        <p:blipFill>
          <a:blip r:embed="rId2"/>
          <a:stretch/>
        </p:blipFill>
        <p:spPr>
          <a:xfrm>
            <a:off x="6477120" y="4267080"/>
            <a:ext cx="2361960" cy="22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061BF-9D6F-464A-AC03-A95E5B2FBB69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7" name="Object 2"/>
          <p:cNvGraphicFramePr/>
          <p:nvPr/>
        </p:nvGraphicFramePr>
        <p:xfrm>
          <a:off x="1220760" y="1600200"/>
          <a:ext cx="670248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20760" y="1600200"/>
                    <a:ext cx="670248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98258-933F-46A7-A1F3-9F29E708A264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360" y="22860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6783840" y="1295280"/>
            <a:ext cx="145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ter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6707520" y="4800600"/>
            <a:ext cx="178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Saf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disposab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5"/>
          <p:cNvSpPr/>
          <p:nvPr/>
        </p:nvSpPr>
        <p:spPr>
          <a:xfrm>
            <a:off x="838080" y="1295280"/>
            <a:ext cx="15433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Prepa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ed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reag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materia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6"/>
          <p:cNvSpPr/>
          <p:nvPr/>
        </p:nvSpPr>
        <p:spPr>
          <a:xfrm>
            <a:off x="457200" y="4952880"/>
            <a:ext cx="2971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Narrow"/>
              </a:rPr>
              <a:t>Contaminated was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8" descr="Autoclave1"/>
          <p:cNvPicPr/>
          <p:nvPr/>
        </p:nvPicPr>
        <p:blipFill>
          <a:blip r:embed="rId1"/>
          <a:stretch/>
        </p:blipFill>
        <p:spPr>
          <a:xfrm>
            <a:off x="3124080" y="2362320"/>
            <a:ext cx="2286000" cy="3047760"/>
          </a:xfrm>
          <a:prstGeom prst="rect">
            <a:avLst/>
          </a:prstGeom>
          <a:ln w="0">
            <a:noFill/>
          </a:ln>
        </p:spPr>
      </p:pic>
      <p:sp>
        <p:nvSpPr>
          <p:cNvPr id="66" name="AutoShape 27"/>
          <p:cNvSpPr/>
          <p:nvPr/>
        </p:nvSpPr>
        <p:spPr>
          <a:xfrm>
            <a:off x="2666880" y="1676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8"/>
          <p:cNvSpPr/>
          <p:nvPr/>
        </p:nvSpPr>
        <p:spPr>
          <a:xfrm>
            <a:off x="2666880" y="5105520"/>
            <a:ext cx="3886200" cy="838080"/>
          </a:xfrm>
          <a:prstGeom prst="pi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8EFF4-C589-47F0-87A7-260DCC5A73F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wo Stage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zation Contro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828440"/>
            <a:ext cx="73152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Proces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mical indic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acter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c3300"/>
                </a:solidFill>
                <a:latin typeface="Arial"/>
              </a:rPr>
              <a:t>Sterile products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Growth 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D5821-CA8C-42D8-AD0E-A5D590284EED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3" descr="indicateurs-chimiques"/>
          <p:cNvPicPr/>
          <p:nvPr/>
        </p:nvPicPr>
        <p:blipFill>
          <a:blip r:embed="rId1"/>
          <a:stretch/>
        </p:blipFill>
        <p:spPr>
          <a:xfrm>
            <a:off x="1905120" y="1828800"/>
            <a:ext cx="2286000" cy="171468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indicateurs-biologiques"/>
          <p:cNvPicPr/>
          <p:nvPr/>
        </p:nvPicPr>
        <p:blipFill>
          <a:blip r:embed="rId2"/>
          <a:stretch/>
        </p:blipFill>
        <p:spPr>
          <a:xfrm>
            <a:off x="4952880" y="1676520"/>
            <a:ext cx="2514600" cy="190476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mediawebserver"/>
          <p:cNvPicPr/>
          <p:nvPr/>
        </p:nvPicPr>
        <p:blipFill>
          <a:blip r:embed="rId3"/>
          <a:stretch/>
        </p:blipFill>
        <p:spPr>
          <a:xfrm>
            <a:off x="4876920" y="4114800"/>
            <a:ext cx="1623960" cy="16765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2" descr="ds_m_01_Autoclave2"/>
          <p:cNvPicPr/>
          <p:nvPr/>
        </p:nvPicPr>
        <p:blipFill>
          <a:blip r:embed="rId4"/>
          <a:stretch/>
        </p:blipFill>
        <p:spPr>
          <a:xfrm>
            <a:off x="2666880" y="457200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0" descr="autoclave%20tape%20steam"/>
          <p:cNvPicPr/>
          <p:nvPr/>
        </p:nvPicPr>
        <p:blipFill>
          <a:blip r:embed="rId5"/>
          <a:stretch/>
        </p:blipFill>
        <p:spPr>
          <a:xfrm>
            <a:off x="1066680" y="4038480"/>
            <a:ext cx="167652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Slide Number Placeholder 4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4C59-FB14-4FAB-AA50-DD18C328BF1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88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Sterility Indic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43434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Chemical indicator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emperature for sterilization have been met.  Do not address time or press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7960" y="1295280"/>
            <a:ext cx="426708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Arial"/>
              </a:rPr>
              <a:t>Biological indica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mperature, time and pressure for sterilization have been m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8"/>
          <p:cNvSpPr/>
          <p:nvPr/>
        </p:nvSpPr>
        <p:spPr>
          <a:xfrm>
            <a:off x="1371600" y="3962520"/>
            <a:ext cx="6477120" cy="213336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 Narrow"/>
              </a:rPr>
              <a:t>NOT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Neither indicator is a guarantee of sterilization i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utoclave is overpack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Broth volumes are too l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Slide Number Placeholder 3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CB583-00C1-4D8A-9DA9-5812EB834610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rcRect l="0" t="0" r="0" b="40007"/>
          <a:stretch/>
        </p:blipFill>
        <p:spPr>
          <a:xfrm>
            <a:off x="304920" y="1600200"/>
            <a:ext cx="8534160" cy="41148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erilization Logboo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Slide Number Placeholder 2"/>
          <p:cNvSpPr/>
          <p:nvPr/>
        </p:nvSpPr>
        <p:spPr>
          <a:xfrm>
            <a:off x="7010280" y="6620040"/>
            <a:ext cx="213372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26BF7-4A83-468D-B6CE-542A92E232DA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crosco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4" descr="4060_research_large"/>
          <p:cNvPicPr/>
          <p:nvPr/>
        </p:nvPicPr>
        <p:blipFill>
          <a:blip r:embed="rId1"/>
          <a:stretch/>
        </p:blipFill>
        <p:spPr>
          <a:xfrm>
            <a:off x="457200" y="1676520"/>
            <a:ext cx="3522600" cy="4016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4114800" y="1677960"/>
            <a:ext cx="4343400" cy="448308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lens 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Have at least one oil                                                  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mmersion lens (X10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Use spring loaded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Keep non-immersion lens fre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of o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Do not allow sample to migrate 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above</a:t>
            </a:r>
            <a:r>
              <a:rPr b="0" lang="en-US" sz="2400" spc="-1" strike="noStrike">
                <a:solidFill>
                  <a:srgbClr val="ffffff"/>
                </a:solidFill>
                <a:latin typeface="Arial Narrow"/>
              </a:rPr>
              <a:t> the le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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  </a:t>
            </a:r>
            <a:r>
              <a:rPr b="1" lang="en-US" sz="2400" spc="-1" strike="noStrike">
                <a:solidFill>
                  <a:srgbClr val="00ff00"/>
                </a:solidFill>
                <a:latin typeface="Arial Narrow"/>
              </a:rPr>
              <a:t>Maintain Kohler Illumination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 Narrow"/>
              <a:buChar char="•"/>
              <a:tabLst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25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03:48:55Z</dcterms:created>
  <dc:creator>Robin Barteluk</dc:creator>
  <dc:description/>
  <dc:language>en-US</dc:language>
  <cp:lastModifiedBy>WHO</cp:lastModifiedBy>
  <dcterms:modified xsi:type="dcterms:W3CDTF">2009-04-02T09:02:42Z</dcterms:modified>
  <cp:revision>2</cp:revision>
  <dc:subject/>
  <dc:title>Slide 1</dc:title>
</cp:coreProperties>
</file>